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96BCBF5-AE40-4FDD-A29D-097F6A699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4876920"/>
            <a:ext cx="480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A499-C4CA-4246-A8F7-64E57D491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74C0-6E46-4D1D-B0CB-3678C16D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5146-3BD5-4400-B638-B64DC9C9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1384-1BAF-4818-A7A6-61FDF73BC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DA37-2C0C-48D0-9995-9529E1D2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83B6-E773-4FBF-9E6C-7354A146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B88F-2DE0-42FF-AFE9-B082037D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20D7-BB16-45BE-AB73-1B6DF902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F863-A262-468B-98CC-746BA98A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89B4-DE61-4E34-94F1-D21D1534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DDA2-5F8B-49F3-99BB-D9230AC9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70FA-F849-41ED-A2F2-AEF12294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4E18-C515-48BD-8DA1-5A565A927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CDCLOGO-rgb_good" descr=""/>
          <p:cNvPicPr/>
          <p:nvPr/>
        </p:nvPicPr>
        <p:blipFill>
          <a:blip r:embed="rId2"/>
          <a:stretch/>
        </p:blipFill>
        <p:spPr>
          <a:xfrm>
            <a:off x="8077320" y="6172200"/>
            <a:ext cx="533160" cy="37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anford Thyroid Disease Study (HTDS)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nal Report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Michael A. McGeehin, Ph.D., M.S.P.H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Director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Division of Environmental Hazards and Health Effec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National Center for Environmental Healt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Centers for Disease Control and Preven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June 21, 200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 of no dose respo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00480" y="2476440"/>
            <a:ext cx="0" cy="2743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00480" y="5219640"/>
            <a:ext cx="3314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00480" y="5334120"/>
            <a:ext cx="952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43480" y="5562720"/>
            <a:ext cx="194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46483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597320" y="2590560"/>
            <a:ext cx="5760" cy="19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4724280"/>
            <a:ext cx="2819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udy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197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versally accepted approa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study group wit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mil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haracteristics bu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evels of expos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ilar characteristic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were young children at time of highest releas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are from Hanford reg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icipant Sel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ientists identified a sampling of 5,199 birth certificates from seven count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,440 people were able to participa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icipants represent a wide range of radiation do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udy Implemen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participants examined for thyroid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ailed information collected for estimating participants’ radiation do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ientists analyzed the da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dose estimates and data analyses recalculated and checked after release of draft re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din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ercentages of people with each kind of thyroid disease were about the same regardless of participants’ radiation do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increase in risk observed with increasing dos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occurrence of thyroid disease was about the same as has been reported in other popula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aning of the findin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nford radiation may have had an effect on health but no increase in risk of thyroid disease was observ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there is an increased risk of thyroid disease from exposure to Hanford’s iodine-131, it is probably too small to observe using the best scientific methods availab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arison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 other radiation stud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other study is directly compara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awing comparisons is difficult because many factors affect thyroid health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ral health, age, gender, family health histo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ype of radiation, dose, dose rate, age at time of exposure, amount of iodine in di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nford has a unique profile of expos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reliable are the data?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DS used most advanced methods available to reconstruct what happened 50 years ag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se estimation is inherently uncerta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ral alternative approaches used to account for  uncertainty.  No change in resul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ublic involvement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d scientific re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ire process open to public input and scientific revie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DS Advisory Committee met regular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meetings and written comments to CD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ional Academy of Sciences peer reviewed the  pilot study, analysis plan and draft re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pendent scientists’ reviews throughou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k conducted since release of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TDS Draft Re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sed the software used for estimating do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alculated all dose estima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-did all data analy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arched audiences and developed communications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TDS Over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dy of thyroid disease among people exposed to iodine-131 from Hanfor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question:  “Did this exposure result in increased incidence of thyroid disease?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osing though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more information:  http://www.cdc.gov/nceh/rad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are concerned about exposure to iodine-131  or experience thyroid disease symptoms, you are encouraged to see your doctor for a thyroid evalu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ank you for com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study thyroid diseas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197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odine-131 was a primary source of radiation from Hanfor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odine-131 concentrates in the thyroid gla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bout the thyroi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ated at base of ne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fects energy, temperature, weight and mo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yroid disease includes abnormal functions and abnormal growth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happened at Hanfor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t to produce plutonium for nuclear weap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amounts of radioactive iodine-131 released into the air from 1944 through 1957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inking contaminated milk was a major way people were expos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he study came abou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concern led to release of Hanford da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ientific panel reviewed what happened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nel recommendations led to: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nford Environmental Dose Reconstruction Project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 of study:  Dose Respo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00480" y="2476440"/>
            <a:ext cx="0" cy="2743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00480" y="5219640"/>
            <a:ext cx="3314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00480" y="5334120"/>
            <a:ext cx="952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43480" y="5562720"/>
            <a:ext cx="194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46483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597320" y="2590560"/>
            <a:ext cx="5760" cy="19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2362320"/>
            <a:ext cx="4343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 greater radiation dose result in increased incidence of thyroid disea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 of strong dose respo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00480" y="2476440"/>
            <a:ext cx="0" cy="2743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00480" y="5219640"/>
            <a:ext cx="3314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00480" y="5334120"/>
            <a:ext cx="952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43480" y="5562720"/>
            <a:ext cx="194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46483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597320" y="2590560"/>
            <a:ext cx="5760" cy="19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590920" y="2742840"/>
            <a:ext cx="2438280" cy="19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 of weak dose respo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00480" y="2476440"/>
            <a:ext cx="0" cy="2743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00480" y="5219640"/>
            <a:ext cx="3314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00480" y="5334120"/>
            <a:ext cx="952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43480" y="5562720"/>
            <a:ext cx="194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46483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597320" y="2590560"/>
            <a:ext cx="5760" cy="19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590920" y="4038120"/>
            <a:ext cx="281916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4T14:30:32Z</dcterms:created>
  <dc:creator>Paul Garbe</dc:creator>
  <dc:description/>
  <dc:language>en-US</dc:language>
  <cp:lastModifiedBy>OPR</cp:lastModifiedBy>
  <dcterms:modified xsi:type="dcterms:W3CDTF">2002-07-23T20:50:46Z</dcterms:modified>
  <cp:revision>37</cp:revision>
  <dc:subject/>
  <dc:title>Hanford Thyroid Disease Study Final Report</dc:title>
</cp:coreProperties>
</file>