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F925D00-C4BB-4EBB-87B3-2B8BDA1B3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4876920"/>
            <a:ext cx="480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1BE6-8607-4EA6-8A0C-1027CC1CF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2184-8B8D-4BB5-AFBA-F60F3B95A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C80D-F0A6-40E5-B32E-999A708CD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E908-1825-4260-9946-67B1C4600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926D-8B30-472B-8561-FDC43D1EA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3C30-1C6E-4D90-8D95-75A40C574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6C21-D656-4F1B-BE39-FE1A63974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2C4C-326D-490F-B483-7B4CDD936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2F68-BC64-42C6-9348-5AAA8C000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428A-E02B-427C-8671-C0CCFDD3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BBB2-2533-4A37-9844-A6D16F10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4FCF-4620-451D-BEC0-755AB8F6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897CA-AB46-44DC-9CBC-28092D5FCB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CDCLOGO-rgb_good" descr=""/>
          <p:cNvPicPr/>
          <p:nvPr/>
        </p:nvPicPr>
        <p:blipFill>
          <a:blip r:embed="rId2"/>
          <a:stretch/>
        </p:blipFill>
        <p:spPr>
          <a:xfrm>
            <a:off x="8077320" y="6172200"/>
            <a:ext cx="533160" cy="371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15238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Hanford Thyroid Disease Study (HTDS)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nal Report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33523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Michael A. McGeehin, Ph.D., M.S.P.H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Director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Division of Environmental Hazards and Health Effect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National Center for Environmental Health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Centers for Disease Control and Preven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June 21, 2002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 of no dose respon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400480" y="2476440"/>
            <a:ext cx="0" cy="2743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00480" y="5219640"/>
            <a:ext cx="3314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400480" y="5334120"/>
            <a:ext cx="952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43480" y="5562720"/>
            <a:ext cx="1942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464832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597320" y="2590560"/>
            <a:ext cx="5760" cy="194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43200" y="4724280"/>
            <a:ext cx="2819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udy Desig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1976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versally accepted approac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study group with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imila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haracteristics bu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iffer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evels of exposu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ilar characteristic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 were young children at time of highest releas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 are from Hanford reg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ticipant Sele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ientists identified a sampling of 5,199 birth certificates from seven count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,440 people were able to participa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ticipants represent a wide range of radiation do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udy Implement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participants examined for thyroid disea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tailed information collected for estimating participants’ radiation do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ientists analyzed the dat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dose estimates and data analyses recalculated and checked after release of draft repor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ding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960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ercentages of people with each kind of thyroid disease were about the same regardless of participants’ radiation do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increase in risk observed with increasing dose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occurrence of thyroid disease was about the same as has been reported in other popula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aning of the finding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nford radiation may have had an effect on health but no increase in risk of thyroid disease was observ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there is an increased risk of thyroid disease from exposure to Hanford’s iodine-131, it is probably too small to observe using the best scientific methods availabl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parison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o other radiation stud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other study is directly comparab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awing comparisons is difficult because many factors affect thyroid health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eral health, age, gender, family health histor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ype of radiation, dose, dose rate, age at time of exposure, amount of iodine in di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nford has a unique profile of exposu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reliable are the data?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DS used most advanced methods available to reconstruct what happened 50 years ag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se estimation is inherently uncertai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ral alternative approaches used to account for  uncertainty.  No change in resul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ublic involvement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d scientific revie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tire process open to public input and scientific review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DS Advisory Committee met regular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meetings and written comments to CD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ional Academy of Sciences peer reviewed the  pilot study, analysis plan and draft repor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ependent scientists’ reviews throughou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ork conducted since release of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TDS Draft Rep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vised the software used for estimating do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alculated all dose estima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-did all data analy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earched audiences and developed communications pl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TDS Overvie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dy of thyroid disease among people exposed to iodine-131 from Hanford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question:  “Did this exposure result in increased incidence of thyroid disease?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osing though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more information:  http://www.cdc.gov/nceh/rad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you are concerned about exposure to iodine-131  or experience thyroid disease symptoms, you are encouraged to see your doctor for a thyroid evalu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ank you for com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y study thyroid disease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197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odine-131 was a primary source of radiation from Hanfor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odine-131 concentrates in the thyroid gla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bout the thyroi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cated at base of nec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fects energy, temperature, weight and moo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yroid disease includes abnormal functions and abnormal growth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happened at Hanfor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ilt to produce plutonium for nuclear weap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ge amounts of radioactive iodine-131 released into the air from 1944 through 1957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inking contaminated milk was a major way people were expos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the study came abou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concern led to release of Hanford dat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ientific panel reviewed what happened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nel recommendations led to: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nford Environmental Dose Reconstruction Project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ype of study:  Dose Respon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400480" y="2476440"/>
            <a:ext cx="0" cy="2743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00480" y="5219640"/>
            <a:ext cx="3314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00480" y="5334120"/>
            <a:ext cx="952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43480" y="5562720"/>
            <a:ext cx="1942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464832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1597320" y="2590560"/>
            <a:ext cx="5760" cy="194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2362320"/>
            <a:ext cx="4343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es greater radiation dose result in increased incidence of thyroid disea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 of strong dose respon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400480" y="2476440"/>
            <a:ext cx="0" cy="2743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00480" y="5219640"/>
            <a:ext cx="3314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400480" y="5334120"/>
            <a:ext cx="952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43480" y="5562720"/>
            <a:ext cx="1942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464832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1597320" y="2590560"/>
            <a:ext cx="5760" cy="194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590920" y="2742840"/>
            <a:ext cx="2438280" cy="1981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 of weak dose respon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400480" y="2476440"/>
            <a:ext cx="0" cy="2743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400480" y="5219640"/>
            <a:ext cx="3314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00480" y="5334120"/>
            <a:ext cx="952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43480" y="5562720"/>
            <a:ext cx="1942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464832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597320" y="2590560"/>
            <a:ext cx="5760" cy="194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590920" y="4038120"/>
            <a:ext cx="2819160" cy="68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4T14:30:32Z</dcterms:created>
  <dc:creator>Paul Garbe</dc:creator>
  <dc:description/>
  <dc:language>en-US</dc:language>
  <cp:lastModifiedBy>OPR</cp:lastModifiedBy>
  <dcterms:modified xsi:type="dcterms:W3CDTF">2002-07-23T20:50:46Z</dcterms:modified>
  <cp:revision>37</cp:revision>
  <dc:subject/>
  <dc:title>Hanford Thyroid Disease Study Final Report</dc:title>
</cp:coreProperties>
</file>