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AFB843-EF9E-48CA-94D5-54EE564ABC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876920"/>
            <a:ext cx="480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5FF-81EB-4FEE-906C-994DDD056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F933-3D23-445D-BC0B-0A30ACA6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55F3-2688-4535-9803-D3FD4CBC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02B-B38F-41F8-9761-4694A60D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0EE-47DC-4C25-AF37-39313878D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B4D-699C-4930-8EF6-975A8A05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68C2-CFC4-414B-843F-13860137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0D7-4958-48AE-984E-DD46544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C125-3D0A-471A-8E60-AC39D6D6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C9C-9D7A-49C1-B251-3F81E93A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938F-1B4F-4A86-A60A-73517347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614-1A21-4AEA-AC00-D967B363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48A8-2028-4E74-8130-B7CBD62EA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CDCLOGO-rgb_good" descr=""/>
          <p:cNvPicPr/>
          <p:nvPr/>
        </p:nvPicPr>
        <p:blipFill>
          <a:blip r:embed="rId2"/>
          <a:stretch/>
        </p:blipFill>
        <p:spPr>
          <a:xfrm>
            <a:off x="8077320" y="6172200"/>
            <a:ext cx="533160" cy="37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9246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nford Thyroid Disease Study (HTDS)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inal Report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Michael A. McGeehin, Ph.D., M.S.P.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Director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Division of Environmental Hazards and Health Effec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National Center for Environmental Health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enters for Disease Control and Preven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June 21, 2002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no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4724280"/>
            <a:ext cx="2819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y Desig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iversally accepted approa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study group wit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imi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haracteristics bu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feren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vels of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ilar characteristic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were young children at time of highest relea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 are from Hanford reg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articipant Selec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sts identified a sampling of 5,199 birth certificates from seven coun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,440 people were able to participa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nts represent a wide range of radiation do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udy Implement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participants examined for thyroid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tailed information collected for estimating participants’ radiation d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sts analyzed the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dose estimates and data analyses recalculated and checked after release of draft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960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ercentages of people with each kind of thyroid disease were about the same regardless of participants’ radiation do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increase in risk observed with increasing dos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occurrence of thyroid disease was about the same as has been reported in other popul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ning of the finding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ford radiation may have had an effect on health but no increase in risk of thyroid disease was observ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there is an increased risk of thyroid disease from exposure to Hanford’s iodine-131, it is probably too small to observe using the best scientific methods availabl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parison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o other radiation stud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ther study is directly comparab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ing comparisons is difficult because many factors affect thyroid health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 health, age, gender, family health histo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ype of radiation, dose, dose rate, age at time of exposure, amount of iodine in di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ford has a unique profile of exposu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reliable are the data?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DS used most advanced methods available to reconstruct what happened 50 years a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se estimation is inherently uncert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ral alternative approaches used to account for  uncertainty.  No change in resul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ublic involvement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nd scientific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tire process open to public input and scientific revie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DS Advisory Committee met regular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meetings and written comments to CD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Academy of Sciences peer reviewed the  pilot study, analysis plan and draft re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cientists’ reviews through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ork conducted since release of 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TDS Draft Repor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sed the software used for estimating do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alculated all dose estima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-did all data analy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ed audiences and developed communications pl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TDS Over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dy of thyroid disease among people exposed to iodine-131 from Hanfor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question:  “Did this exposure result in increased incidence of thyroid disease?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osing though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more information:  http://www.cdc.gov/nceh/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are concerned about exposure to iodine-131  or experience thyroid disease symptoms, you are encouraged to see your doctor for a thyroid evalu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ank you for com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y study thyroid diseas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6197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dine-131 was a primary source of radiation from Hanfor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odine-131 concentrates in the thyroid gla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out the thyroi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at base of ne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energy, temperature, weight and m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yroid disease includes abnormal functions and abnormal growth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happened at Hanfo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t to produce plutonium for nuclear weap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amounts of radioactive iodine-131 released into the air from 1944 through 195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inking contaminated milk was a major way people were expo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the study came abou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oncern led to release of Hanford da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ientific panel reviewed what happened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el recommendations led to: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nford Environmental Dose Reconstruction Project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T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 of study: 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2362320"/>
            <a:ext cx="434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greater radiation dose result in increased incidence of thyroid disea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strong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90920" y="2742840"/>
            <a:ext cx="243828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ple of weak dose respon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00480" y="2476440"/>
            <a:ext cx="0" cy="2743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00480" y="5219640"/>
            <a:ext cx="3314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00480" y="5334120"/>
            <a:ext cx="952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43480" y="5562720"/>
            <a:ext cx="1942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46483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597320" y="2590560"/>
            <a:ext cx="57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90920" y="4038120"/>
            <a:ext cx="281916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4T14:30:32Z</dcterms:created>
  <dc:creator>Paul Garbe</dc:creator>
  <dc:description/>
  <dc:language>en-US</dc:language>
  <cp:lastModifiedBy>OPR</cp:lastModifiedBy>
  <dcterms:modified xsi:type="dcterms:W3CDTF">2002-07-23T20:50:46Z</dcterms:modified>
  <cp:revision>37</cp:revision>
  <dc:subject/>
  <dc:title>Hanford Thyroid Disease Study Final Report</dc:title>
</cp:coreProperties>
</file>